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3124080" y="6356520"/>
            <a:ext cx="289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-1628640" y="695160"/>
            <a:ext cx="182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"/>
          <p:cNvSpPr/>
          <p:nvPr/>
        </p:nvSpPr>
        <p:spPr>
          <a:xfrm>
            <a:off x="3124080" y="6356520"/>
            <a:ext cx="289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2"/>
          <p:cNvSpPr/>
          <p:nvPr/>
        </p:nvSpPr>
        <p:spPr>
          <a:xfrm>
            <a:off x="-1628640" y="695160"/>
            <a:ext cx="182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1440" y="0"/>
            <a:ext cx="9142560" cy="5256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arbatti Industry Generates Sustain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lihood for Rural Peo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304920" y="838080"/>
            <a:ext cx="847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98600" y="6324480"/>
            <a:ext cx="31636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Open sans"/>
              </a:rPr>
              <a:t>Helping Small Businesses Grow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685800" y="5410080"/>
            <a:ext cx="2589120" cy="9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1440" y="0"/>
            <a:ext cx="9142560" cy="1141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Arial"/>
              </a:rPr>
              <a:t>Agarbatti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8078760" y="457200"/>
            <a:ext cx="10652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abic Typesetting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04920" y="304920"/>
            <a:ext cx="8310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16000" y="3117960"/>
            <a:ext cx="871056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958440" y="6324480"/>
            <a:ext cx="1954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ff420e"/>
                </a:solidFill>
                <a:uFillTx/>
                <a:latin typeface="Arial"/>
              </a:rPr>
              <a:t>www.biz2credit.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6019920" cy="37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1440" y="0"/>
            <a:ext cx="9142560" cy="1141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8078760" y="457200"/>
            <a:ext cx="10652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abic Typesetting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04920" y="3808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Arial"/>
              </a:rPr>
              <a:t>Mangaldeep 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28600" y="2286000"/>
            <a:ext cx="8710560" cy="27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6958440" y="6324480"/>
            <a:ext cx="1954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ff420e"/>
                </a:solidFill>
                <a:uFillTx/>
                <a:latin typeface="Arial"/>
              </a:rPr>
              <a:t>www.biz2credit.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4355280" y="3254400"/>
            <a:ext cx="637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9436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1440" y="0"/>
            <a:ext cx="9142560" cy="1141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Arial"/>
              </a:rPr>
              <a:t>Annual Growth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8078760" y="457200"/>
            <a:ext cx="10652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abic Typesetting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28600" y="30492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16000" y="3117960"/>
            <a:ext cx="871056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958440" y="6324480"/>
            <a:ext cx="1954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ff420e"/>
                </a:solidFill>
                <a:uFillTx/>
                <a:latin typeface="Arial"/>
              </a:rPr>
              <a:t>www.biz2credit.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85792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1440" y="0"/>
            <a:ext cx="9142560" cy="1141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8458200" y="533520"/>
            <a:ext cx="6858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abic Typesetting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04920" y="533520"/>
            <a:ext cx="83106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16000" y="3117960"/>
            <a:ext cx="871056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958440" y="6324480"/>
            <a:ext cx="1954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ff420e"/>
                </a:solidFill>
                <a:uFillTx/>
                <a:latin typeface="Arial"/>
              </a:rPr>
              <a:t>www.biz2credit.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586728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0" y="0"/>
            <a:ext cx="9142560" cy="5256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4360" y="576360"/>
            <a:ext cx="863928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 You For Viewing The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ur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biz2credit.in/b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98600" y="6324480"/>
            <a:ext cx="31636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Open sans"/>
              </a:rPr>
              <a:t>Helping Small Businesses Grow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85800" y="5410080"/>
            <a:ext cx="2589120" cy="924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5T08:28:12Z</dcterms:created>
  <dc:creator>Joy</dc:creator>
  <dc:description/>
  <cp:keywords/>
  <dc:language>en-US</dc:language>
  <cp:lastModifiedBy>Shivani</cp:lastModifiedBy>
  <dcterms:modified xsi:type="dcterms:W3CDTF">2015-07-22T09:25:02Z</dcterms:modified>
  <cp:revision>4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550</vt:lpwstr>
  </property>
</Properties>
</file>